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DF8-68F1-49B1-A7DA-C56C290C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75B1-10B3-498E-BF56-8143114D32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407-8F7F-453A-B883-5145B85C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0FD-7128-4C45-B62F-45A570D8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2FF-4469-44B4-9481-6AB8F1A0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EE8-837E-4D81-91EA-97E489CE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CC16-6407-4E12-9ED3-5104C701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308D-E763-4DEE-B5DF-38E9534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7E88-42F2-43FE-832F-955B04F4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BE03-3D34-40E0-B1DC-6E6F1B0E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58F-77CC-4AB2-8E93-54E95B4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79CC-C761-4E9F-B10F-F813DFD1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8117-1F88-4437-8DF0-E0892F3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3A7-C1D6-46CA-B865-EE5D4435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F7A8-6FE2-431E-84CA-E6FD8B2E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E540-DE2E-4DB8-9BB4-CB55C53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4DC3-1159-4B19-BAEA-E6D2FE70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1194-2984-49B2-BCC4-719BBB2D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F41-29EC-42CE-A437-BA3E51D4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D6BA-5B23-4364-8B53-5817F2CC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06F8-683E-4105-9E1F-AA0EEDFF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0D3A-5E77-4A94-9C3E-178EEF4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3542-2775-4801-8298-1A1712B2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3544-6F1B-489A-B2D3-C4413F05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6E1-8DE0-4A65-AA61-95EEA53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5C93-BFF0-4F28-ADD4-7B11828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D99D-3D44-4E84-B1E9-767770AA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309C-9C5E-43E6-9F6B-B353BCE1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C44C0-6574-4B4D-81B7-3469F53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3B82-1198-4100-89CA-619B6585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1769-989E-481F-9143-8CEE62BB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4A40-0D75-4795-9F10-7C5142E7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900D-6D72-4F5A-9F51-BAF119C4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9BF2-CB51-4DE3-98AC-9AE7FD2D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7C38-9095-4BB8-BB78-338519F7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93B-ED64-4967-8E9B-6F578693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BD6E-209D-4D07-A741-FDD126DB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33A9-CE6D-4AE8-880E-83397EFA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3A58F-53D9-44A4-8AD6-F1F06C78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1B00-A3A8-4141-BEE3-F7B73A6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0C513-80FE-4F3A-A7AB-CA0D55F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C402-8BF1-4B71-8982-BA9900E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40D4-4A4E-4E43-B08C-31333E47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9F89-3EDE-4DC4-B74D-4DDFDCE0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0DE6-EEF0-497F-8DE0-1FDD23C7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63C10-80E3-427D-A331-2A5046E8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710-5863-40D4-8282-7A087F59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A9BE-81AA-436B-92CB-45205E14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D20D5-B6A0-410C-9231-1383FED2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9EBF3-81CE-4DD7-B1AA-0AFB0E17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B329-EFAC-4464-A1B0-FA489022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E6E2-1761-43C5-B368-3AB5B63F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A916-6351-454F-86ED-905B6A0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6A7FA-685F-43E3-9A67-EA85352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2E7B-25E6-46EB-A9E1-FD23353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CBB5-58B4-432D-A4FD-78818EB7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971F-965A-4FB1-829C-2FEC5887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9C4-163D-4551-A132-7930D0A2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F240-CF6C-4DC0-9C48-F646A3DB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B49-1BA1-4AAE-81C1-A71DDCE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795-D1C7-4306-A254-9079B1BF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A64-31C5-4317-8D6E-B0A0194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de cantos arredondado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D8EA-D20C-4DC7-9ADD-7B65636CCB8E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tângulo de cantos arredondado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9D79-2A4F-42F1-985D-183B9D44E790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tângulo de cantos arredondados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etângulo de cantos arredondados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tângulo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709-1875-4AB6-81D8-D2D811592C01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ângu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de cantos arredondado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C94-91F1-4F3D-AF4E-767EA122F0B7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tângu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de cantos arredondado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ângulo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065B-C589-472A-B2B9-7C8045CCCA27}" type="slidenum">
              <a:rPr b="0" lang="pt-B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lec.org/" TargetMode="External"/><Relationship Id="rId2" Type="http://schemas.openxmlformats.org/officeDocument/2006/relationships/hyperlink" Target="http://meusite.mackenzie.com.br/leitepr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ffffff"/>
                </a:solidFill>
                <a:latin typeface="Franklin Gothic Book"/>
              </a:rPr>
              <a:t>LOGÍSTICA INTEGRADA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Franklin Gothic Book"/>
              </a:rPr>
              <a:t>Critérios de avaliação &amp; seminário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6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6027840" y="404640"/>
            <a:ext cx="2752560" cy="75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49320" y="49068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Comic Sans MS"/>
              </a:rPr>
              <a:t>Prof. Luciel Henrique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Tahoma"/>
              </a:rPr>
              <a:t>luciel@fae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tângulo 5"/>
          <p:cNvSpPr/>
          <p:nvPr/>
        </p:nvSpPr>
        <p:spPr>
          <a:xfrm>
            <a:off x="1187280" y="4437000"/>
            <a:ext cx="66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DA DISCIPLINA DISPONIVEL NO S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logisticaintegradaunifae.wikispaces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Franklin Gothic Book"/>
              </a:rPr>
              <a:t>Critérios de avaliação dos seminário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ritério C: ( Peso 20%)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GRUP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: Demonstração de trabalho em grupo através de boa coordenação  e coerência das diferentes apresentações individuais, da demonstração de que o grupo trabalhou com participação de todos e o uso correto do temp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Critério D: (Peso 20%)-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PESQUISA BIBLIOGRÁFICA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   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Uso pertinente da bibliografia básica do curso e bibliografia adicional demonstrada, contribuições questionários e  entrevistas, contatos com executivos, materiais de apoio, catálogos, vídeos, etc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ritério E: (Peso 10%)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APRESENTAÇÃ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: Forma, criatividade, meios expositivos,  cuidado no preparo. Utilizar-se de data show, transparências, vídeos, palestras,  etc. entre outros meios, que tornem a apresentação mais inteligível, evitando a simples leitura de laudas. É o momento em que os alunos demonstram o domínio de sua parte e do trabalho como um todo.</a:t>
            </a:r>
            <a:r>
              <a:rPr b="0" lang="pt-BR" sz="9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Franklin Gothic Book"/>
              </a:rPr>
              <a:t>Algumas dica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00000" y="148392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Mostrar o caso escolhido para aprovação prévia do professo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Fazer telas com tópicos principais ao invés de textos longos evidenciam um certo domínio do assunto evitando exposição “decorada” ou “lida”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Escritas de última hora na lousa podem demonstrar falta de preparo na apresentaçã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Leitura de laudas intui baixo nível de compreensão do assunto expost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Perpetua"/>
              </a:rPr>
              <a:t>Preparação dos equipamentos da apresentação com antecedência denota cuidado com o trabalh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SUPPLY CHAIN MANAGEMENT: Christopher, Martin -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istica e Gerenciamento da Cadeia de Suprimentos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Edit. Pioneira, 1999 ; Christopher, Martin,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Marketing e Logística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, Futura , 1999 ; Bowersox, Donald J. –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istica Empresarial –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Edit. Atlas, 2001; Fleury, Paulo F. et al- Logística Empresarial. Edit. Atlas , 2002; Chopra, Sunil e Meindl, Peter-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. Prentice Hall, 2003. Bertaglia, Paulo R. –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ística e gerenciamento da cadeia de abastecimento., edit Saraiva, 2003. 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Taylor, Daid A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Logística na Cadeia de suprimentos – uma perspectiva gerencial-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Pearson , 2004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PORTOS MARÍTIMOS : Revista Tecnologistica  - Artenova Editora e Comunicações; Revista Transporte; Internet PORTOS, Coleção Aduaneiras, etc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96080" indent="-4960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COMPRAS – SUPRIMENTOS:  Arnold, J.R.Tony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Administração de Materiais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São Paulo: Edit. Atlas, 1999; Dias, Marco Antonio P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Administração de Materiais. 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São Paulo: Edit. Atlas; 1997; Viana, João J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Administração de Materiais- Um Enfoque Prático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São Paulo: Edit. Atlas, 2000 ; Baily, Peter et al. </a:t>
            </a:r>
            <a:r>
              <a:rPr b="0" i="1" lang="pt-BR" sz="2200" spc="-1" strike="noStrike">
                <a:solidFill>
                  <a:srgbClr val="000000"/>
                </a:solidFill>
                <a:latin typeface="Perpetua"/>
              </a:rPr>
              <a:t>Compras.</a:t>
            </a:r>
            <a:r>
              <a:rPr b="0" lang="pt-BR" sz="2200" spc="-1" strike="noStrike">
                <a:solidFill>
                  <a:srgbClr val="000000"/>
                </a:solidFill>
                <a:latin typeface="Perpetua"/>
              </a:rPr>
              <a:t> São Paulo: Edit. Atlas,2000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50560" y="1447920"/>
            <a:ext cx="8435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TRANSPORTE: Fleury, Paulo F. et al-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Logística Empresarial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. Edit. Atlas , 2002: Revista Tecnologistica  - Artenova Editora e Comunicações; Ballou, Ronald H –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– Edit. Bookman,2001; Bowersox, Donald J..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Logística Empresarial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São Paulo: Edit. Atlas, 2001; Caixeta , José Vicente et al –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Transportes e logística em sistemas agroindustriais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Atlas, 2001; Caixeta , José Vicente et al –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Gestão logística de transportes de carga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Atlas, 2001.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EMBALAGEM LOGÍSTICA: Ballou, Ronald H –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– Edit. Bookman,2001; Bowersox, Donald J..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Logística Empresarial.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São Paulo: Edit. Atlas, 2001; </a:t>
            </a:r>
            <a:r>
              <a:rPr b="0" i="1" lang="pt-BR" sz="2400" spc="-1" strike="noStrike">
                <a:solidFill>
                  <a:srgbClr val="000000"/>
                </a:solidFill>
                <a:latin typeface="Perpetua"/>
              </a:rPr>
              <a:t>Manuais IMAM-</a:t>
            </a: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 Instituto de movimentação e armazenamento de materiais.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GESTÃO DE ESTOQUES:  Arnold, J.R.Tony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Administração de Materiais.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São Paulo: Edit. Atlas, 1999; Dias, Marco Antonio P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Administração de Materiais. 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São Paulo: Edit. Atlas; 1997; Davis, Mark M.; Aquilano, Nicholas J.; Chase, Richards B..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Fundamentos da Administração da Produção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. Porto Alegre: Edit. Bookman, 2001; Francischini, Paulino G. e Gurgel, Floriano do Amaral. Administração de Materiais e do Patrimônio. São Paulo, edit. Pioneira, 2002; Gaither, Norman e Frazier,Greg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Administração da Produção e Operações. 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São Paulo: Edit. Pioneira, 2001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38840" indent="-4388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TERCEIRIZAÇÃO LOGÍSTICA: Fleury, Paulo F. et al- Logística Empresarial. Edit. Atlas , 2002: Revista Tecnologistica  - Artenova Editora e Comunicações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38840" indent="-4388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ARMAZENAGEM:  Fleury, Paulo F. et al- Logística Empresarial. Edit. Atlas , 2002: Revista Tecnologistica  - Artenova Editora e Comunicações; Ballou, Ronald H –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Gerenciamento da Cadeia de Suprimentos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– Edit. Bookman,2001; Bowersox, Donald J..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Logística Empresarial.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São Paulo: Edit. Atlas, 2001; manuais IMAM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68000" y="1413000"/>
            <a:ext cx="85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CÓDIGO DE BARRAS e EDI : EAN- Brasil , Associação Brasileira de Automação ; Revista Tecnologistica  - Artenova Editora e Comunicações; Francischini, Paulino G. e Gurgel, Floriano do Amaral. Administração de Materiais e do Patrimônio. São Paulo, edit. Pioneira, 2002;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5800" indent="-415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LOGÍSTICA REVERSA : Leite, Paulo Roberto – Logística Reversa – Meio Ambiente e Competitividade. São Paulo, 2003. Edit.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entice Hall.; Rogers, Dale S. e Tibben-Lembke, Ronald S. –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Going Backwards:Reverse Logistics Trends and Pratices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Disponível na Internet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www.rlec.or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; Council of Logistics Management –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Reuse and Recycling –Reverse Logistics Opportunities-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Edit CLM, 1993;  Revista Tecnologistica  - Artenova Editora e Comunicações, </a:t>
            </a: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meusite.mackenzie.com.br/leitep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5800" indent="-4158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LOGÍSTICA INTERNACIONAL: Dornier, Philippe- Pierre at al – </a:t>
            </a:r>
            <a:r>
              <a:rPr b="0" i="1" lang="pt-BR" sz="2000" spc="-1" strike="noStrike">
                <a:solidFill>
                  <a:srgbClr val="000000"/>
                </a:solidFill>
                <a:latin typeface="Perpetua"/>
              </a:rPr>
              <a:t>Logística e Operações Globais</a:t>
            </a: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 – Textos e casos . Edit. Atlas 2000; Coleções Aduaneiras; Revistas Tecnologistica, Revistas Transport – Turetta Editora e propagandaRevista Distribuição – L&amp;M Comunicações; Revistas especializadas na biblioteca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68000" y="1413000"/>
            <a:ext cx="85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REVISTAS  TÉCNICAS E SITES DE LOGÍST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Tecnologístic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LOGÍSTICA – IMA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MundoLogístic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Logística Modern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Portal Logw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Portal NewsComex - Logística e Comércio Exteri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Guia Log - Publicações Técnicas de Logístic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Revista Portuária - Economia e Negócio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erpetu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73008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SUGESTÕES DE BIBLIOGRAF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56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Links que podem ajudar..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Guia de Logística e Transporte - www.guialog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ASLOG - www.aslog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Ibralog - www.ibralog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América Latina Logística - www.all-logistica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ABML - www.abml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MRS LOGÍSTICA S.A. - www.mrs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Guia de Logística e Transporte  - www.guiade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Instituto de Logística e Suply Chain  - www.ilos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Portal NTC&amp;Logística - www.ntcelogistica.org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www.logisticainternacional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Instituto IMAM - www.imam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http://www.expo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http://www.revistamundo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www.tecnologistica.com.b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68360" y="3200040"/>
            <a:ext cx="82072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  <a:ea typeface="Arial"/>
              </a:rPr>
              <a:t>Trabalhos individuais:  30%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1 (27/08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2 (03/09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3 (17/09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Arial"/>
                <a:ea typeface="Arial"/>
              </a:rPr>
              <a:t>Trabalho 4 (02/10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  <a:ea typeface="Arial"/>
              </a:rPr>
              <a:t>Seminários (grupos) – </a:t>
            </a:r>
            <a:r>
              <a:rPr b="1" lang="pt-BR" sz="1400" spc="-1" strike="noStrike">
                <a:solidFill>
                  <a:srgbClr val="c00000"/>
                </a:solidFill>
                <a:latin typeface="Arial"/>
                <a:ea typeface="Arial"/>
              </a:rPr>
              <a:t>Sorteio de apresentações (dias 09, 16, 23 e 30 de outubro)  - 30%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  <a:ea typeface="Arial"/>
              </a:rPr>
              <a:t>Prova Final (13/11) - 40%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ffffff"/>
                </a:solidFill>
                <a:latin typeface="Franklin Gothic Book"/>
              </a:rPr>
              <a:t>LOGÍSTICA INTEGRADA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Franklin Gothic Book"/>
              </a:rPr>
              <a:t>Critérios de avaliação &amp; seminário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1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6027840" y="404640"/>
            <a:ext cx="2752560" cy="756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49320" y="490680"/>
            <a:ext cx="36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Comic Sans MS"/>
              </a:rPr>
              <a:t>Prof. Luciel Henrique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Tahoma"/>
              </a:rPr>
              <a:t>luciel@fae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Franklin Gothic Book"/>
              </a:rPr>
              <a:t>TEMAS DE SEMINÁRIOS DE </a:t>
            </a: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Franklin Gothic Book"/>
              </a:rPr>
              <a:t>LOGÍSTICA INTEGRADA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6880" y="2184480"/>
            <a:ext cx="8031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Perpetua"/>
              </a:rPr>
              <a:t>Grupos de até 4 pessoa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Perpetua"/>
              </a:rPr>
              <a:t>Propósito dos seminário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Perpetua"/>
              </a:rPr>
              <a:t>IDENTIFICAR, PREPARAR E APRESENTAR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Perpetua"/>
              </a:rPr>
              <a:t>CASOS REAIS</a:t>
            </a:r>
            <a:r>
              <a:rPr b="1" lang="pt-BR" sz="2800" spc="-1" strike="noStrike">
                <a:solidFill>
                  <a:srgbClr val="000000"/>
                </a:solidFill>
                <a:latin typeface="Perpetua"/>
              </a:rPr>
              <a:t> EM QUE POSSAM SER IDENTIFICADOS OS CONCEITOS PRINCIPAIS RELACIONADOS A SEGUIR, PROCURANDO RESPONDER, TEÓRICA E PRATICAMENTE ATRAVÉS DO CASO, A QUESTÃO FOCAL DO TEM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Temas de seminários de </a:t>
            </a:r>
            <a:br>
              <a:rPr sz="3400"/>
            </a:b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Logística Integrada </a:t>
            </a:r>
            <a:r>
              <a:rPr b="0" lang="pt-BR" sz="1800" spc="-1" strike="noStrike">
                <a:solidFill>
                  <a:srgbClr val="ff0000"/>
                </a:solidFill>
                <a:latin typeface="Franklin Gothic Book"/>
              </a:rPr>
              <a:t>(escolha do grupo)</a:t>
            </a:r>
            <a:endParaRPr b="0" lang="en-US" sz="1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920" y="1341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SUPPLY CHAIN MANAGEMENT: Como os diversos aspectos de parceria empresarial podem afetar os resultado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SUPPLY CHAIN MANAGEMENT: Aplicação dos conceitos de cadeia de suprimentos em uma cadeia de suprimentos agropecuária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PORTOS MARÍTIMOS: Aspectos logísticos que condicionam a sua produtividade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COMPRAS: Qual a contribuição da área de suprimentos (compras) nos resultado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TRANSPORTE FERROVIÁRIO: Potencialidade do modal nas operações empresariais no Brasil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TERCEIRIZAÇÃO LOGÍSTICA: Resultados alcançados na empresa com a terceirização logística?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INFORMATIZAÇÃO LOGÍSTICA:  Como a informática  e / ou automação podem auxiliar empresas em suas atividades logísticas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50560" y="1663560"/>
            <a:ext cx="87138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CODIGO DE BARRAS: Qual o impacto da implementação de código de barras, EDI,  e / ou etiqueta inteligente nas operaçõe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EMBALAGEM LOGÍSTICA: Influência da embalagem logística nas operações de transportes e armazenagem da empresa?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LOGISTICA REVERSA: Quais os objetivos estratégicos na implementação de um programa de logística reversa em um setor ou empresa?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TRANSPORTES AÉREO: O transporte aéreo nas operações empresariais no Brasil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DISTRIBUIÇÃO FISICA: O impacto da distribuição física dos produtos no resultado empresarial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NÍVEL DE SERVIÇO LOGÍSTICO: A avaliação do desempenho da missão logística n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rpetua"/>
              </a:rPr>
              <a:t>LOGÍSTICA INTERNACIONAL: qual o impacto das peculiaridades logísticas nas operações internacionais da empresa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Temas de seminários de </a:t>
            </a:r>
            <a:br>
              <a:rPr sz="3400"/>
            </a:br>
            <a:r>
              <a:rPr b="1" lang="pt-BR" sz="3400" spc="-1" strike="noStrike">
                <a:solidFill>
                  <a:srgbClr val="ff0000"/>
                </a:solidFill>
                <a:latin typeface="Franklin Gothic Book"/>
              </a:rPr>
              <a:t>Logística Integrada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Franklin Gothic Book"/>
              </a:rPr>
              <a:t>Seminários de grupos de aluno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95280" y="1125360"/>
            <a:ext cx="8569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Os temas (problemas de pesquisa) e datas de apresentação serão sorteados em classe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Os grupos de até 4 alunos devem se apresentar na data sorteada pelo professor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Cada grupo terá um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Perpetua"/>
              </a:rPr>
              <a:t>tempo máximo de 30 minutos </a:t>
            </a:r>
            <a:r>
              <a:rPr b="0" lang="pt-BR" sz="1600" spc="-1" strike="noStrike">
                <a:solidFill>
                  <a:srgbClr val="000000"/>
                </a:solidFill>
                <a:latin typeface="Perpetua"/>
              </a:rPr>
              <a:t>para apresentar, seguido da discussão com a turma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 u="sng">
                <a:solidFill>
                  <a:srgbClr val="000000"/>
                </a:solidFill>
                <a:uFillTx/>
                <a:latin typeface="Perpetua"/>
              </a:rPr>
              <a:t>DINÂMICA: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rupo inicia o trabalho pelo estudo do tema central usando a bibliografia do curso e bibliografia adicional que enriqueça o trabalho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dentifica o caso que será analisado e apresentado em classe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 buscar dados atualizados para ilustrar o caso e detalhar: problemas, oportunidades, desafios, soluções..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dos os alunos devem apresentar seminário.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valiação será feita pela apresentação do grupo, considerando o relatório entregue e os slides apresentado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trega de um </a:t>
            </a:r>
            <a:r>
              <a:rPr b="0" lang="pt-BR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latório impresso</a:t>
            </a:r>
            <a:r>
              <a:rPr b="0" lang="pt-BR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es da apresentação em classe (máximo 10 páginas), detalhando as fontes de pesquisa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a seguinte á apresentação, enviar por e-mail o relatório e os slides, com as devidas correções sugeridas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f.luciel@gmail.com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Franklin Gothic Book"/>
              </a:rPr>
              <a:t>Avaliação do Seminário</a:t>
            </a:r>
            <a:br>
              <a:rPr sz="32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9806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la apresentação do seminário pelo grupo em sala de aula de acordo com os critérios especificados e pelo conteúdo do RELATÓRIO entregu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la originalidade e grau de detalhamento do caso apresenta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Pela capacidade de relacionar o caso aos conceitos teóric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Não é necessária apresentação de outro material escrito salvo por interesse do professor que solicitará expressamente ao grupo após a apresentação em sala de aul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Franklin Gothic Book"/>
              </a:rPr>
              <a:t>Avaliação do Seminário</a:t>
            </a:r>
            <a:br>
              <a:rPr sz="32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5280" y="9806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onteúdo obrigatório da apresentaçã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O seminário deve conter e o grupo deve explicar um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QUADRO RELACIONAL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mostrando a aplicação dos conceitos, definições, técnicas, sistemas operacionais, práticas e processos logísticos identificados ou não encontrados no caso estudado tendo como referência a bibliografia consultad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erpetua"/>
              </a:rPr>
              <a:t>Deve constar - a fonte de todas as pesquias o nome do autor, título da obra e editora, página em que se encontra o conceito, ou site (URL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Perpetua"/>
              </a:rPr>
              <a:t>Último slides: elaborar 4 questões para discussão em sala, explorando o relacionamento do caso com os conceitos teóricos estudad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Franklin Gothic Book"/>
              </a:rPr>
              <a:t>Critérios de avaliação dos seminários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560" y="1557000"/>
            <a:ext cx="867564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Critério A: ( Peso de 30%)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ANÁLISE DO CASO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: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Explicações, comentários e críticas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 ao caso estudado relacionando os principais conceitos identificados no caso com os encontrados na literatura pesquisada. O grupo deve demonstrar o nível de compreensão e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foco em logística  integrada </a:t>
            </a:r>
            <a:r>
              <a:rPr b="0" lang="pt-BR" sz="2600" spc="-1" strike="noStrike">
                <a:solidFill>
                  <a:srgbClr val="0070c0"/>
                </a:solidFill>
                <a:latin typeface="Perpetua"/>
              </a:rPr>
              <a:t>na análise dos conceitos logísticos no caso estudado. </a:t>
            </a:r>
            <a:r>
              <a:rPr b="0" lang="pt-BR" sz="2600" spc="-1" strike="noStrike" u="sng">
                <a:solidFill>
                  <a:srgbClr val="0070c0"/>
                </a:solidFill>
                <a:uFillTx/>
                <a:latin typeface="Perpetua"/>
              </a:rPr>
              <a:t>O grupo deve evitar a simples descrição do caso sem a devida “ligação” com os conceitos logísticos ou a descrição pura e simples da teoria estudad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Critério B: (Peso 20%)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Perpetua"/>
              </a:rPr>
              <a:t>SER COMPREENSÍVEL- Lógica e seqüência no desenvolvimento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do seminário. Exposição gradativa e dentro de uma ordem compreensível. Breve introdução de contextualização do caso e do setor estudado; etapas do seminário compatíveis com o tempo e com o número de alunos do grupo e um fechamento com comentários finais do grupo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1:19:19Z</dcterms:created>
  <dc:creator>Paulo Roberto Leite</dc:creator>
  <dc:description/>
  <dc:language>en-US</dc:language>
  <cp:lastModifiedBy>ssssss</cp:lastModifiedBy>
  <dcterms:modified xsi:type="dcterms:W3CDTF">2014-08-21T22:27:35Z</dcterms:modified>
  <cp:revision>17</cp:revision>
  <dc:subject/>
  <dc:title>Temas de seminários de  logística empresarial</dc:title>
</cp:coreProperties>
</file>